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9BC-938D-4350-BB83-E3A5FD3B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81B-E8E3-4145-B82C-4A5B841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351-5306-4B87-901B-FD9C24BE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2EC-2952-4B28-9812-CCDEBB19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9A6-4EE7-49D6-A568-1846A173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EF5-952F-4D2B-B5E8-14C01A2D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7DC-4EB3-4BD2-9934-9F396F53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8B6-B096-4346-9F3B-DAAB13F0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751-1807-40DF-AE05-85A7FA8D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89E-22F0-4426-9569-AEC02494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914-DD58-4B77-9A3C-4F1E9BAF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FED-722C-4227-80EC-6DD1E77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E92B-3590-4E12-BEB9-C3BB9100F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dagascar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P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7960" y="1828800"/>
            <a:ext cx="2201760" cy="306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13680" y="4775040"/>
            <a:ext cx="23083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ajor Historical Ev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In the 15th century, 1895, Madagascar became a French colon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149640" y="3759120"/>
            <a:ext cx="3276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7320" y="1422360"/>
            <a:ext cx="96598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iki.answers.com/Q/Did_anyone_famous_come_from_Madagasc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google.com/search?rlz=1C1GGIE_en&amp;aq=2&amp;oq=population+of+mad&amp;sourceid=chrome&amp;ie=UTF-8&amp;q=population+of+madagascar#sclient=psy-ab&amp;hl=en&amp;rlz=1C1GGIE_en&amp;source=hp&amp;q=capital+of+madagascar&amp;pbx=1&amp;oq=+of+madagascar&amp;aq=3c&amp;aqi=g-c4&amp;aql=&amp;gs_sm=c&amp;gs_upl=148036l148036l0l150466l1l1l0l0l0l0l141l141l0.1l1l0&amp;fp=1&amp;biw=1280&amp;bih=933&amp;bav=on.2,or.r_gc.r_pw.,cf.osb&amp;cad=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google.com/search?rlz=1C1GGIE_en&amp;aq=2&amp;oq=population+of+mad&amp;sourceid=chrome&amp;ie=UTF-8&amp;q=population+of+madagascar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s://www.google.com/search?aq=f&amp;sourceid=chrome&amp;ie=UTF-8&amp;q=form+of+government+for+madagascar#pq=current+leader+madagascar&amp;hl=en&amp;tok=bE4f1LJobiluS9drx2MWOg&amp;cp=33&amp;gs_id=2t&amp;xhr=t&amp;q=current+leader+of+madagascar+2012&amp;pf=p&amp;sclient=psy-ab&amp;source=hp&amp;pbx=1&amp;oq=current+leader+of+madagascar+2012&amp;aq=f&amp;aqi=&amp;aql=&amp;gs_sm=&amp;gs_upl=&amp;fp=1&amp;biw=1024&amp;bih=475&amp;bav=on.2,or.r_gc.r_pw.,cf.osb&amp;cad=b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s://www.google.com/search?aq=f&amp;sourceid=chrome&amp;ie=UTF-8&amp;q=form+of+government+for+madagascar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enchantedlearning.com/africa/madagascar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articleswave.com/cultures-and-civilizations/culture-of-madagascar.ht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africanhistory.about.com/od/madagasca1/Madagascar.htm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Capital and Popul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population of Madagascar is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0,713,81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dagascar's capital is  Antananariv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01880" y="2946240"/>
            <a:ext cx="3375000" cy="2872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4165560"/>
            <a:ext cx="87336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Famous Person From Madagasc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ean-Joseph Rabéarivelo is a famous poet from Madagasca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51160" y="3048120"/>
            <a:ext cx="26416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9400" y="297000"/>
            <a:ext cx="96598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Form of Government and Current Lead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type of government for Madagascar is dictatorship and republi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current leader of Madagascar is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ry Rajoeli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60640" y="3251160"/>
            <a:ext cx="2357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ajor Ex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wo major exports of Madagascar is coffee and vanill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6440" y="2844720"/>
            <a:ext cx="3984480" cy="222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502320" y="4368960"/>
            <a:ext cx="26798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ajor Relig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major beliefs or religions are Christian and the others are traditional belief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36760" y="3759120"/>
            <a:ext cx="48960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Important Holiday of Madagasc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dagascar's Independence Day is celebrated on June 26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adagascar's Curren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unit of money in Madagascar is the Malagasy fran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38280" y="3149640"/>
            <a:ext cx="50594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usic and Dancing in Madagasc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music in Madagascar, traditional and contemporary revolves around dance rhythms which are influenced both from the African as well as the Indonesian mainlan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8120" y="3759120"/>
            <a:ext cx="31748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